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4D39-DB19-4DAD-A2E7-AA8CA19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8A31-5CFD-4912-997D-17066D9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A005-A1DE-452E-996D-36BF9319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B449-DAE7-4936-BEC8-1F8B5CC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95C-68A7-491D-9A61-B55C63C0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0F9-2A42-436B-9381-3007B25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AC86-966F-4C94-9920-3476717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A543-B0F0-4E9C-8ED8-5124ABA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69AD-2BAD-4F0A-AE77-7DE1AFB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5CEA-B27D-4F53-A6D5-45D5CF4D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03B3-7EF6-46B2-B6B2-89E8E4A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099E-65F7-4BB1-83F3-66F7EEC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D57-F08A-468A-A07F-5267C87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D17-63C7-43F2-B7F9-3F19146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9A3E-00D1-4EB8-A26C-CD54F1A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308E-EB9D-4E07-BF28-3F691D89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1CA-D777-4A8F-8F13-83E842C4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6778-27BF-41AB-A16B-62CE704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D4E0-548E-47B6-B296-94CAACF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9EA3-AE55-44CD-B539-759F8FB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5256-2F74-435E-8150-4093B50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C950-6FAB-4C6A-A404-68318E9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665B-2D9C-41D1-A3AB-9D51623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25B3-D257-44A3-AE67-297C8A6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B0B-20AF-452A-BBC5-A4C855D49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0EA-C9FD-411A-854E-462C43C0B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Логопедичес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и 617 гр. Сухарькова Вероника и Урбан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рик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ты види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980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авильн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равь одну букву и прочти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4038480" cy="228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Исправь одну букву и прочти слово"/>
          <p:cNvPicPr/>
          <p:nvPr/>
        </p:nvPicPr>
        <p:blipFill>
          <a:blip r:embed="rId2"/>
          <a:stretch/>
        </p:blipFill>
        <p:spPr>
          <a:xfrm>
            <a:off x="5003640" y="1916280"/>
            <a:ext cx="3822840" cy="45464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зрительного внимания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аница (ана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буквы в клеточках, проследив линию, и прочти получившее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Напиши буквы в клеточках"/>
          <p:cNvPicPr/>
          <p:nvPr/>
        </p:nvPicPr>
        <p:blipFill>
          <a:blip r:embed="rId1"/>
          <a:stretch/>
        </p:blipFill>
        <p:spPr>
          <a:xfrm>
            <a:off x="1763640" y="2421000"/>
            <a:ext cx="5112000" cy="3981240"/>
          </a:xfrm>
          <a:prstGeom prst="rect">
            <a:avLst/>
          </a:prstGeom>
          <a:ln w="0">
            <a:noFill/>
          </a:ln>
        </p:spPr>
      </p:pic>
    </p:spTree>
  </p:cSld>
  <p:transition advTm="11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утай с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пиши слоги в клетки и прочитай слова, которые у тебя получ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Впиши слоги в клетки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40003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57240" y="2273400"/>
            <a:ext cx="72295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еобходимые для обучения навыки; применять имеющиеся знания в различных условиях; развивать внимание, мышление, волю и любознательность. Увлекательные игры для дошкольников и первоклассников помогут закрепить элементарные знания по фонетике, освоить и развить навыки чтения, закрепить прочный фундамент грамотного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907920"/>
            <a:ext cx="664848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 логопедических игр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8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ление слов из бук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станови 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ь букву, которая должна идти по алфав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4000680"/>
            <a:ext cx="85075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 соседей буквы — предыдущую и последу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ставь букву"/>
          <p:cNvPicPr/>
          <p:nvPr/>
        </p:nvPicPr>
        <p:blipFill>
          <a:blip r:embed="rId1"/>
          <a:stretch/>
        </p:blipFill>
        <p:spPr>
          <a:xfrm>
            <a:off x="324000" y="2276640"/>
            <a:ext cx="578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оседей буквы"/>
          <p:cNvPicPr/>
          <p:nvPr/>
        </p:nvPicPr>
        <p:blipFill>
          <a:blip r:embed="rId2"/>
          <a:stretch/>
        </p:blipFill>
        <p:spPr>
          <a:xfrm>
            <a:off x="539640" y="5013360"/>
            <a:ext cx="5295960" cy="1390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витие мышления и обогащение лекс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тий ли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й звук лишний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И(П — со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ШЧ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(А — глас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ЙЧЦ(Ц — твёрд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ТМ(М — звон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ЖЦ(Ч — мяг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ВК(К — глух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ЙЩ(Ш — твёрды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кроссворд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ши слова в клеточки так, чтобы они пересекались первыми и последними бук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3024360" cy="2718000"/>
          </a:xfrm>
          <a:prstGeom prst="rect">
            <a:avLst/>
          </a:prstGeom>
          <a:ln w="0">
            <a:noFill/>
          </a:ln>
        </p:spPr>
      </p:pic>
    </p:spTree>
  </p:cSld>
  <p:transition advTm="14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1471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ворд «Лесен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052280"/>
            <a:ext cx="4316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гадай слова и впиши их в указанном стрелками направлении. Последняя буква первого слова является одновременно первой буквой второго слова и т. д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ыба, живущая у д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сяц вес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Лекарство для смазывания царапин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Вьётся из трубы, когда топят печ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Им пишут на доск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апа лися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Его заметают на сово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о, чем бодается коров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Он загорается, когда к плите подносят спи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511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Чайнворд Лесенка"/>
          <p:cNvPicPr/>
          <p:nvPr/>
        </p:nvPicPr>
        <p:blipFill>
          <a:blip r:embed="rId2"/>
          <a:stretch/>
        </p:blipFill>
        <p:spPr>
          <a:xfrm>
            <a:off x="4284720" y="2060640"/>
            <a:ext cx="4583160" cy="33336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й 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и волнистую линию так, чтобы гласные остались сверху, а согласные —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рисунок звуко-буквенный анализ"/>
          <p:cNvPicPr/>
          <p:nvPr/>
        </p:nvPicPr>
        <p:blipFill>
          <a:blip r:embed="rId1"/>
          <a:stretch/>
        </p:blipFill>
        <p:spPr>
          <a:xfrm>
            <a:off x="395280" y="2852640"/>
            <a:ext cx="8064360" cy="3283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о-буквенный синтез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бук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и выпиши все большие буквы и составь слово, найди и выпиши все маленькие буквы и составь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все большие белые буквы, все большие чёрные буквы, все маленькие белые, все маленькие чёрные и составь из них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Найди и выпиши все большие буквы"/>
          <p:cNvPicPr/>
          <p:nvPr/>
        </p:nvPicPr>
        <p:blipFill>
          <a:blip r:embed="rId1"/>
          <a:stretch/>
        </p:blipFill>
        <p:spPr>
          <a:xfrm>
            <a:off x="684360" y="3213000"/>
            <a:ext cx="7740360" cy="31114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логовое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ждом кубике — буквы одного слова, на каждой грани кубика — одна буква. Напиши в клетках внизу те буквы, которые не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На каждом кубике — буквы одного слова"/>
          <p:cNvPicPr/>
          <p:nvPr/>
        </p:nvPicPr>
        <p:blipFill>
          <a:blip r:embed="rId1"/>
          <a:stretch/>
        </p:blipFill>
        <p:spPr>
          <a:xfrm>
            <a:off x="1258920" y="2708280"/>
            <a:ext cx="6467400" cy="37623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гры с букв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квы-сестр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 все одинаковые буквы. О — обведи в кружок, У — в квадрат, И — подчерк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буквы можно сделать из этих загот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О — обведи в кружок"/>
          <p:cNvPicPr/>
          <p:nvPr/>
        </p:nvPicPr>
        <p:blipFill>
          <a:blip r:embed="rId1"/>
          <a:stretch/>
        </p:blipFill>
        <p:spPr>
          <a:xfrm>
            <a:off x="684360" y="2565360"/>
            <a:ext cx="4819680" cy="46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Сделай буквы"/>
          <p:cNvPicPr/>
          <p:nvPr/>
        </p:nvPicPr>
        <p:blipFill>
          <a:blip r:embed="rId2"/>
          <a:stretch/>
        </p:blipFill>
        <p:spPr>
          <a:xfrm>
            <a:off x="755640" y="4365720"/>
            <a:ext cx="5810400" cy="18381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7:31Z</dcterms:created>
  <dc:creator>студент</dc:creator>
  <dc:description/>
  <dc:language>en-US</dc:language>
  <cp:lastModifiedBy>студент</cp:lastModifiedBy>
  <dcterms:modified xsi:type="dcterms:W3CDTF">2012-04-17T07:13:56Z</dcterms:modified>
  <cp:revision>3</cp:revision>
  <dc:subject/>
  <dc:title>Логопедические</dc:title>
</cp:coreProperties>
</file>